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3B7-2DB1-49A8-9DBC-29D3A4CF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15B-7AFC-4E86-BA82-3C0B297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F3D-3F2E-46CD-BE8F-5B289A7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152-251C-44AB-AB46-B3ECD15C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5A91-17C7-4085-9706-D00886B7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ABED-6E91-4F83-AB73-A5F2F3D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756-EF1A-4375-B493-9C7B738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8FB6-826D-4847-B474-0FF5187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86C6-7722-4DEB-A331-E7847996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F210-82F7-46C4-8693-8C199E7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D291-3775-4EAD-8CDA-38F3E72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617-33EB-4390-BA3E-DD7CD6C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87B-F69E-4536-B3DA-CF478FF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657C-6EC3-4A46-BE91-D5E39BA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649-74A5-4380-8E73-21645458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E619-23FD-4B0F-9F16-4A3AFF30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6B6-BBC7-460C-8713-ECE81504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DD1-49EC-4B0D-8A14-732CBBA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BE9-DDE7-4678-B4D9-E4536E12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F9A-12A1-4532-A9E1-A5F8E4F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5F1-0FEA-4EAB-AD58-3270378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35A-67C9-4FD4-B91F-55A6DEE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091-8A38-47CE-887E-BF05AE6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E1F-BBB2-4112-AA9E-B8338DE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ACB5-0D6B-40FB-9294-F7E81C76F5A7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0782-38AE-4E32-817A-0503FD4D9EC6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473480" y="1125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666ff"/>
                </a:solidFill>
                <a:uFillTx/>
                <a:latin typeface="Arial"/>
              </a:rPr>
              <a:t>La naissance de la philosop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34520" y="2825640"/>
            <a:ext cx="44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s philosoph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ésocrat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ÉCOLE DE MILET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640" y="2349360"/>
            <a:ext cx="54849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ALÈ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NAXIMAND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79551b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NAXIMÈ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3" name="Picture 4" descr="10-1"/>
          <p:cNvPicPr/>
          <p:nvPr/>
        </p:nvPicPr>
        <p:blipFill>
          <a:blip r:embed="rId2"/>
          <a:stretch/>
        </p:blipFill>
        <p:spPr>
          <a:xfrm>
            <a:off x="1042920" y="2924280"/>
            <a:ext cx="1779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28744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62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THALÈS DE MILET (624-546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32000" y="1844280"/>
            <a:ext cx="548496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Fondateur de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l’École de Milet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. Il fut un des sept sages grec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Il affirma que l’archè c’était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L’EAU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 ou ce qui est humide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7" name="Picture 4" descr="11-1"/>
          <p:cNvPicPr/>
          <p:nvPr/>
        </p:nvPicPr>
        <p:blipFill>
          <a:blip r:embed="rId3"/>
          <a:stretch/>
        </p:blipFill>
        <p:spPr>
          <a:xfrm>
            <a:off x="900000" y="2924280"/>
            <a:ext cx="1782720" cy="2844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203640" y="4724280"/>
            <a:ext cx="253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 terre est comme une assiette qui flotte sur l’ea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42920" y="16286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6600cc"/>
                </a:solidFill>
                <a:latin typeface="Times New Roman"/>
              </a:rPr>
              <a:t>Tout est plein de dieu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11-2"/>
          <p:cNvPicPr/>
          <p:nvPr/>
        </p:nvPicPr>
        <p:blipFill>
          <a:blip r:embed="rId4"/>
          <a:stretch/>
        </p:blipFill>
        <p:spPr>
          <a:xfrm>
            <a:off x="5796000" y="4365720"/>
            <a:ext cx="25257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762120"/>
            <a:ext cx="6967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IMANDRE DE MILET (610-545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32000" y="1844640"/>
            <a:ext cx="548496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archè est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L’APEIRO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l’indéterminé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univers surgit de lui avec la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éparation des contraire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 Le froid et humide s’est séparé de la chaleur. Tout naît de lui et revient à lui, il 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éternel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3" name="Picture 4" descr="12-2"/>
          <p:cNvPicPr/>
          <p:nvPr/>
        </p:nvPicPr>
        <p:blipFill>
          <a:blip r:embed="rId2"/>
          <a:stretch/>
        </p:blipFill>
        <p:spPr>
          <a:xfrm>
            <a:off x="3132000" y="4005360"/>
            <a:ext cx="3168720" cy="1973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2-3"/>
          <p:cNvPicPr/>
          <p:nvPr/>
        </p:nvPicPr>
        <p:blipFill>
          <a:blip r:embed="rId3"/>
          <a:stretch/>
        </p:blipFill>
        <p:spPr>
          <a:xfrm>
            <a:off x="826920" y="1700280"/>
            <a:ext cx="2089440" cy="1257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6227640" y="4221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e5c"/>
                </a:solidFill>
                <a:latin typeface="Times New Roman"/>
              </a:rPr>
              <a:t>La terre est cylindrique comme une tarte. Elle est en repos et ne repose sur ri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anaximan"/>
          <p:cNvPicPr/>
          <p:nvPr/>
        </p:nvPicPr>
        <p:blipFill>
          <a:blip r:embed="rId4"/>
          <a:stretch/>
        </p:blipFill>
        <p:spPr>
          <a:xfrm>
            <a:off x="826920" y="3860640"/>
            <a:ext cx="1944720" cy="2346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11600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</a:rPr>
              <a:t>Nous venons des poi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2920" y="76500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IMÈNE DE MILET (585-524 av.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35280" y="1700280"/>
            <a:ext cx="348624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L’archè est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L’AIR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53440" y="2637000"/>
            <a:ext cx="18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RÉF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374520" y="2637000"/>
            <a:ext cx="203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5148000" y="2205000"/>
            <a:ext cx="863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300720" y="220500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716360" y="299736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308720" y="299736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308720" y="357336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7308720" y="407664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7308720" y="465300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7308720" y="515772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900000" y="1989000"/>
            <a:ext cx="217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terre est plate et flotte sur l’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es corps célestes tournent autour d’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13-2"/>
          <p:cNvPicPr/>
          <p:nvPr/>
        </p:nvPicPr>
        <p:blipFill>
          <a:blip r:embed="rId2"/>
          <a:stretch/>
        </p:blipFill>
        <p:spPr>
          <a:xfrm>
            <a:off x="1187280" y="3933720"/>
            <a:ext cx="5497560" cy="191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13-1"/>
          <p:cNvPicPr/>
          <p:nvPr/>
        </p:nvPicPr>
        <p:blipFill>
          <a:blip r:embed="rId3"/>
          <a:stretch/>
        </p:blipFill>
        <p:spPr>
          <a:xfrm>
            <a:off x="1042920" y="3860640"/>
            <a:ext cx="1776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1628640"/>
            <a:ext cx="583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</a:t>
            </a:r>
            <a:br>
              <a:rPr sz="2800"/>
            </a:b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PYTHAGORIQU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7280" y="3860640"/>
            <a:ext cx="309564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PYTHAGO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5" name="Picture 5" descr="delfos-templo"/>
          <p:cNvPicPr/>
          <p:nvPr/>
        </p:nvPicPr>
        <p:blipFill>
          <a:blip r:embed="rId2"/>
          <a:stretch/>
        </p:blipFill>
        <p:spPr>
          <a:xfrm>
            <a:off x="900000" y="3357720"/>
            <a:ext cx="30956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640" y="762120"/>
            <a:ext cx="667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PYTHAGORE DE SAMOS (572-496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87640" y="1915920"/>
            <a:ext cx="54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Il fonda un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ecte philosophico-religieus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à Crotone où on admettait les femmes et les enfant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archè c’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E NUMÉRO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concrètement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tetracti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, la somme des quatre chiffres donne 10: 1+2+3+4. Tous les numéros naissent du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Son discip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hilolao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affirma que la terre et les planètes tournaient autour d’un grand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feu originai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produisant de la musique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8" name="Picture 4" descr="15-1"/>
          <p:cNvPicPr/>
          <p:nvPr/>
        </p:nvPicPr>
        <p:blipFill>
          <a:blip r:embed="rId2"/>
          <a:stretch/>
        </p:blipFill>
        <p:spPr>
          <a:xfrm>
            <a:off x="611280" y="2637000"/>
            <a:ext cx="2228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0360" y="170028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D’ÉPHÈSE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5280" y="3500280"/>
            <a:ext cx="35593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HÉRACLI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1" name="Picture 4" descr="10-1"/>
          <p:cNvPicPr/>
          <p:nvPr/>
        </p:nvPicPr>
        <p:blipFill>
          <a:blip r:embed="rId2"/>
          <a:stretch/>
        </p:blipFill>
        <p:spPr>
          <a:xfrm>
            <a:off x="1619280" y="3141720"/>
            <a:ext cx="13762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762120"/>
            <a:ext cx="653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HÉRACLITE D’ÉPHÈSE (544-484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’archè est l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EU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Le monde naît de lui et meurt en lui dans un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éternel retour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hangem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se produit dû à la lutte des contraires: </a:t>
            </a:r>
            <a:r>
              <a:rPr b="0" i="1" lang="es-ES" sz="2400" spc="-1" strike="noStrike">
                <a:solidFill>
                  <a:srgbClr val="000000"/>
                </a:solidFill>
                <a:latin typeface="Palatino Linotype"/>
              </a:rPr>
              <a:t>on ne peut pas se baigner deux fois dans le même fleuv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y a une raison ou LOGOS qui régit l’univers et les hommes, mais ceux qui dorment ne le savent pa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4" name="Picture 4" descr="17-1"/>
          <p:cNvPicPr/>
          <p:nvPr/>
        </p:nvPicPr>
        <p:blipFill>
          <a:blip r:embed="rId2"/>
          <a:stretch/>
        </p:blipFill>
        <p:spPr>
          <a:xfrm>
            <a:off x="900000" y="1844640"/>
            <a:ext cx="172908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7-2"/>
          <p:cNvPicPr/>
          <p:nvPr/>
        </p:nvPicPr>
        <p:blipFill>
          <a:blip r:embed="rId3"/>
          <a:stretch/>
        </p:blipFill>
        <p:spPr>
          <a:xfrm>
            <a:off x="900000" y="3716280"/>
            <a:ext cx="17114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7280" y="162864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ff"/>
                </a:solidFill>
                <a:uFillTx/>
                <a:latin typeface="Palatino Linotype"/>
              </a:rPr>
              <a:t>L’ÉCOLE  D’ÉLÉ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08000" y="3428640"/>
            <a:ext cx="363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PARMÉNID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ZÉNON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8" name="Picture 4" descr="10-1"/>
          <p:cNvPicPr/>
          <p:nvPr/>
        </p:nvPicPr>
        <p:blipFill>
          <a:blip r:embed="rId2"/>
          <a:stretch/>
        </p:blipFill>
        <p:spPr>
          <a:xfrm>
            <a:off x="1547640" y="3429000"/>
            <a:ext cx="1422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60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PARMÉNIDE D’ÉLÉE (540-47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Il exposa ses idées dans un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oème célèb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en vers hexamétrique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Dans le poème une déesse lui raconte qu’il y a deux voies: celle de la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érité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et celle d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’opinion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(qui est trompeuse)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a vérité consiste à savoir qu’il n’y a qu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’ÊTR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qui existe. Il n’y a pas de non-être ou vide, ni le changement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’être est unique, éternel et immobile, c’es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enser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79480" y="1268280"/>
            <a:ext cx="203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L’être est et peut être pens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Le non-être n’est pas et ne peut être pens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20-1"/>
          <p:cNvPicPr/>
          <p:nvPr/>
        </p:nvPicPr>
        <p:blipFill>
          <a:blip r:embed="rId2"/>
          <a:stretch/>
        </p:blipFill>
        <p:spPr>
          <a:xfrm>
            <a:off x="755640" y="3789360"/>
            <a:ext cx="19242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_Grec_Delos"/>
          <p:cNvPicPr/>
          <p:nvPr/>
        </p:nvPicPr>
        <p:blipFill>
          <a:blip r:embed="rId2"/>
          <a:stretch/>
        </p:blipFill>
        <p:spPr>
          <a:xfrm>
            <a:off x="468360" y="2060640"/>
            <a:ext cx="784872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069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ff"/>
                </a:solidFill>
                <a:uFillTx/>
                <a:latin typeface="Palatino Linotype"/>
              </a:rPr>
              <a:t>1. Le passage du mythe au logos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40360" y="3141720"/>
            <a:ext cx="266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philosophie occidentale surgit dans l’ancienne Grèce (VII siècle av. J.C.) dans la colonie de Milet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AutoShape 5"/>
          <p:cNvSpPr/>
          <p:nvPr/>
        </p:nvSpPr>
        <p:spPr>
          <a:xfrm rot="3408600">
            <a:off x="5040360" y="5192640"/>
            <a:ext cx="1584360" cy="216000"/>
          </a:xfrm>
          <a:prstGeom prst="leftArrow">
            <a:avLst>
              <a:gd name="adj1" fmla="val 50000"/>
              <a:gd name="adj2" fmla="val 183375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3640" y="762120"/>
            <a:ext cx="610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ZÉNON D’ÉLÉE (490-42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26920" y="1699920"/>
            <a:ext cx="5862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argumentait avec des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paradoxes et de faux raisonnement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Initiateurde la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dialectiqu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 argumenta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ntre la divisibilité de l’espace et du temp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et contre 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ouvem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Son argument le plus connu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est celui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d’Achile et la tortu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selon lequel le coureur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n’atteindra jamais l’animal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4360" y="1844640"/>
            <a:ext cx="203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Times New Roman"/>
              </a:rPr>
              <a:t>Dans une course, le plus lent ne sera jamais atteint par le plus rap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21-1"/>
          <p:cNvPicPr/>
          <p:nvPr/>
        </p:nvPicPr>
        <p:blipFill>
          <a:blip r:embed="rId2"/>
          <a:stretch/>
        </p:blipFill>
        <p:spPr>
          <a:xfrm>
            <a:off x="755640" y="3860640"/>
            <a:ext cx="1698480" cy="222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21-2"/>
          <p:cNvPicPr/>
          <p:nvPr/>
        </p:nvPicPr>
        <p:blipFill>
          <a:blip r:embed="rId3"/>
          <a:stretch/>
        </p:blipFill>
        <p:spPr>
          <a:xfrm>
            <a:off x="7093080" y="4802040"/>
            <a:ext cx="151128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Palatino Linotype"/>
              </a:rPr>
              <a:t>PHILOSOPHES PLURALISTES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24000" y="3141720"/>
            <a:ext cx="431964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EMPÉDOC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ANAXAGOR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3333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Palatino Linotype"/>
              </a:rPr>
              <a:t>DÉMOCRI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70" name="Picture 4" descr="10-1"/>
          <p:cNvPicPr/>
          <p:nvPr/>
        </p:nvPicPr>
        <p:blipFill>
          <a:blip r:embed="rId2"/>
          <a:stretch/>
        </p:blipFill>
        <p:spPr>
          <a:xfrm>
            <a:off x="1476360" y="2997360"/>
            <a:ext cx="14209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762120"/>
            <a:ext cx="6894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EMPÉDOCLE D’AGRIGENTE (495-435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00360" y="1483920"/>
            <a:ext cx="548496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réalité est un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SPHÈR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avec quatre éléments: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eau, air, terre et feu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De leur mélange surgissent toutes les chose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haine sépare les éléments et le monde se forme. Mais après arrive le C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hao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Grâce à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amour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la sphère se forme à nouveau en recommençant le cycl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84360" y="1844640"/>
            <a:ext cx="203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Times New Roman"/>
              </a:rPr>
              <a:t>Le semblable connaît le semb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23-1"/>
          <p:cNvPicPr/>
          <p:nvPr/>
        </p:nvPicPr>
        <p:blipFill>
          <a:blip r:embed="rId2"/>
          <a:stretch/>
        </p:blipFill>
        <p:spPr>
          <a:xfrm>
            <a:off x="826920" y="3573360"/>
            <a:ext cx="1892520" cy="238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23-2"/>
          <p:cNvPicPr/>
          <p:nvPr/>
        </p:nvPicPr>
        <p:blipFill>
          <a:blip r:embed="rId3"/>
          <a:stretch/>
        </p:blipFill>
        <p:spPr>
          <a:xfrm>
            <a:off x="4427640" y="5084640"/>
            <a:ext cx="18730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4240" y="765000"/>
            <a:ext cx="752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ff"/>
                </a:solidFill>
                <a:uFillTx/>
                <a:latin typeface="Palatino Linotype"/>
              </a:rPr>
              <a:t>ANAXAGORE DE CLAZOMÈNES (500-428 av. J-C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41400" y="1828800"/>
            <a:ext cx="5484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Tout est composé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GRAIN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, tout est en tout. Ex.: l’or a des graines de tout mais les graines d’or prédominent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s changements se produisent pa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TOURBILLON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qui mélange les graine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Ce qui produit ce tourbillon c’est l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NOÛ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, un esprit ou intelligence puissante et sag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78" name="Picture 4" descr="24-1"/>
          <p:cNvPicPr/>
          <p:nvPr/>
        </p:nvPicPr>
        <p:blipFill>
          <a:blip r:embed="rId2"/>
          <a:stretch/>
        </p:blipFill>
        <p:spPr>
          <a:xfrm>
            <a:off x="539640" y="2205000"/>
            <a:ext cx="21830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762120"/>
            <a:ext cx="718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DÉMOCRITE D’ABDÈRE (460-370 av. J-C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16000" y="1844640"/>
            <a:ext cx="5484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 monde est composé par des particules invisibles appelé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TOM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Ils se différencient par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a figure, l’ordre et la position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 Ils bougent dans le vide, se heurtent et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orment des mondes au hasard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âm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est aussi formée par des atomes et elle est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ortell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81" name="Picture 4" descr="25-1"/>
          <p:cNvPicPr/>
          <p:nvPr/>
        </p:nvPicPr>
        <p:blipFill>
          <a:blip r:embed="rId2"/>
          <a:stretch/>
        </p:blipFill>
        <p:spPr>
          <a:xfrm>
            <a:off x="611280" y="2060640"/>
            <a:ext cx="2313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41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Avant, les explications de l’origine du monde se faisait grâce aux myth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es mythes étaient des cosmovisions où les dieux de l’Olympe vivaient une série d’aventures. Un mythe célèbre est le rapte d’Europ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3645000"/>
            <a:ext cx="3384720" cy="1770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urope était une princesse phénicienne et Zeus est tombé amoureux d’elle. Il s’est transformé e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urea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t l’a emmenée à Crète où ils eurent trois enf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3-1"/>
          <p:cNvPicPr/>
          <p:nvPr/>
        </p:nvPicPr>
        <p:blipFill>
          <a:blip r:embed="rId2"/>
          <a:stretch/>
        </p:blipFill>
        <p:spPr>
          <a:xfrm>
            <a:off x="684360" y="3429000"/>
            <a:ext cx="3367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20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Mais la philosophie cherchait des explications rationnelles. Pour celà on dit que la naissance de la philosophie suppose le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passage du mythe au logos</a:t>
            </a: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143160" y="2708280"/>
            <a:ext cx="47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Times New Roman"/>
              </a:rPr>
              <a:t>Comment celà s’est-il prod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52280" y="4219560"/>
            <a:ext cx="21466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GOS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Mo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traité,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4-1"/>
          <p:cNvPicPr/>
          <p:nvPr/>
        </p:nvPicPr>
        <p:blipFill>
          <a:blip r:embed="rId2"/>
          <a:stretch/>
        </p:blipFill>
        <p:spPr>
          <a:xfrm>
            <a:off x="4643280" y="4149720"/>
            <a:ext cx="1976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14720" y="1143000"/>
            <a:ext cx="6215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Palatino Linotype"/>
              </a:rPr>
              <a:t>En réalité celà n’est pas arrivé soudain, un “miracle grec”, il y eu de nombreuses influences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Palatino Linotype"/>
              </a:rPr>
              <a:t>RELIGIEUSE: 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La religion grecque où il y avait des dieux avec une forme humaine n’était pas très orthodoxe. Les poèmes d’Homère et d’Hésiode parlaient de dieux non-humains pour expliquer l’origine du monde comme l’Océan et le Chaos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6" name="3 Imagen" descr="5-1.jpg"/>
          <p:cNvPicPr/>
          <p:nvPr/>
        </p:nvPicPr>
        <p:blipFill>
          <a:blip r:embed="rId2"/>
          <a:stretch/>
        </p:blipFill>
        <p:spPr>
          <a:xfrm>
            <a:off x="642960" y="2643120"/>
            <a:ext cx="1906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0" y="928440"/>
            <a:ext cx="5913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Palatino Linotype"/>
              </a:rPr>
              <a:t>SCIENTIFIQU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: Les savoirs et les technologies importés d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hine, Inde, Égypte et Mésopotami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ont contribué au surgissement de l’inquiétude scientifique et philosophique en Grèc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8" name="3 CuadroTexto"/>
          <p:cNvSpPr/>
          <p:nvPr/>
        </p:nvSpPr>
        <p:spPr>
          <a:xfrm>
            <a:off x="3429000" y="3500280"/>
            <a:ext cx="4500720" cy="22885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 travail chinois en mathématiques le plus ancien est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rithmétique en neuf section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que l’on suppose écrit sous la dynastie des Chou vers l’an 1000 av. J-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4 Imagen" descr="10.5A-1.jpg"/>
          <p:cNvPicPr/>
          <p:nvPr/>
        </p:nvPicPr>
        <p:blipFill>
          <a:blip r:embed="rId2"/>
          <a:stretch/>
        </p:blipFill>
        <p:spPr>
          <a:xfrm>
            <a:off x="928800" y="3000240"/>
            <a:ext cx="2176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857240" y="857160"/>
            <a:ext cx="65008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Palatino Linotype"/>
              </a:rPr>
              <a:t>SOCIÉTÉ ET ÉCONOMI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: L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mmerce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permettait la connaissance des autres peuples, en plus les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aristocrates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grecs avaient le temps de se consacrer à philosopher. L’apparition de </a:t>
            </a: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’argent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développa le raisonnement par abstraction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4071960" y="3857760"/>
            <a:ext cx="3857760" cy="16185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émocrati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urgit dans les polis Grecques et on commença à réfléchir sur des concepts comme la citoyenneté et l’amiti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4 Imagen" descr="7-1.jpg"/>
          <p:cNvPicPr/>
          <p:nvPr/>
        </p:nvPicPr>
        <p:blipFill>
          <a:blip r:embed="rId2"/>
          <a:stretch/>
        </p:blipFill>
        <p:spPr>
          <a:xfrm>
            <a:off x="785880" y="3286080"/>
            <a:ext cx="2984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8"/>
          <p:cNvSpPr/>
          <p:nvPr/>
        </p:nvSpPr>
        <p:spPr>
          <a:xfrm>
            <a:off x="684360" y="2852640"/>
            <a:ext cx="2158920" cy="1224000"/>
          </a:xfrm>
          <a:prstGeom prst="ellipse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440" y="762120"/>
            <a:ext cx="7297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Palatino Linotype"/>
              </a:rPr>
              <a:t>2. LES PHILOSOPHES PRÉSOCRATIQUE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16000" y="1844640"/>
            <a:ext cx="70833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es présocratiques sont les premiers penseurs qui ont initié ce que l’on appelle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assage au mythe au logo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On les appelle ainsi car ils ont vécu avant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ocrate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(pas tous) et ils ont réfléchi sur le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cosmos</a:t>
            </a: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 tandis que Socrate s’est consacré à la vie de la polis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3 Imagen" descr="8-1.jpg"/>
          <p:cNvPicPr/>
          <p:nvPr/>
        </p:nvPicPr>
        <p:blipFill>
          <a:blip r:embed="rId2"/>
          <a:stretch/>
        </p:blipFill>
        <p:spPr>
          <a:xfrm>
            <a:off x="3714840" y="2714760"/>
            <a:ext cx="2643120" cy="186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813960" y="3116160"/>
            <a:ext cx="19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ment t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commencé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3059280" y="1557360"/>
            <a:ext cx="3384360" cy="2735280"/>
          </a:xfrm>
          <a:prstGeom prst="octagon">
            <a:avLst>
              <a:gd name="adj" fmla="val 2928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76720" y="1916280"/>
            <a:ext cx="290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Quel est le principe ou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archè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toutes les cho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56920" y="5059440"/>
            <a:ext cx="62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Ce principe doit se trouver dans la nature (phy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Quel est ce princip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1:31:37Z</dcterms:created>
  <dc:creator>Moi</dc:creator>
  <dc:description/>
  <dc:language>en-US</dc:language>
  <cp:lastModifiedBy>Fernanda</cp:lastModifiedBy>
  <dcterms:modified xsi:type="dcterms:W3CDTF">2012-09-19T16:44:07Z</dcterms:modified>
  <cp:revision>46</cp:revision>
  <dc:subject/>
  <dc:title>Diapositiva 1</dc:title>
</cp:coreProperties>
</file>